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09B-DA49-4105-9A0E-0A907CEF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7D6-8FEF-4176-A945-49922685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A03-F964-4BCC-AC4A-9C9098A6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C2DA-6F16-41FF-ACA8-D5395DC3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BA50-82AD-4DB8-B2E2-2BD57623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BD5-95F6-4782-8411-EBB58714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01B-2826-4F2D-A05F-7CBAC02E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CAB-2BFF-4D7B-9854-F9364AD4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0DE-BB11-43B9-8D22-743591C9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DAF-75DE-4957-B35E-5CED1C40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7FC7-B414-4317-B5AB-928BFA92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65B-3F7F-45AB-8A36-63F2B3C0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E363-A4BD-4898-88A9-C3CB54CC8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2120" y="0"/>
            <a:ext cx="5410080" cy="6095880"/>
            <a:chOff x="762120" y="0"/>
            <a:chExt cx="5410080" cy="60958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2120" y="0"/>
              <a:ext cx="5410080" cy="60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791000" y="1919160"/>
              <a:ext cx="3330000" cy="2370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6553080"/>
            <a:ext cx="685800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bi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-312840" y="343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quot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3841920" y="332064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dat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5:29:37Z</dcterms:created>
  <dc:creator>chris.williams</dc:creator>
  <dc:description/>
  <dc:language>en-US</dc:language>
  <cp:lastModifiedBy>chris.williams</cp:lastModifiedBy>
  <dcterms:modified xsi:type="dcterms:W3CDTF">2012-12-14T15:38:32Z</dcterms:modified>
  <cp:revision>3</cp:revision>
  <dc:subject/>
  <dc:title>Slide 1</dc:title>
</cp:coreProperties>
</file>